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4.jpeg" ContentType="image/jpe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384-0731-4C06-B37E-3FCFCC3B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9898-A87B-4F3C-815F-7C1DA87E9FFD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513-3FAB-4D30-8CAC-F634FBD4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4B0-D7CF-409B-AC7C-CFD565B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41A-CC17-4666-A2E1-B8A6E520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C28-9829-498F-A30A-F750F00E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0940-D990-4CFA-9FB9-875D5CFE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E64A-37DC-4D9C-A763-8977DD76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1FC-3E4D-478F-BE7C-51512C5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CBC-1401-48DD-854B-44FDB973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8F6-BE28-4751-AE7C-9BC9D92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CBD-29CB-4C0F-A277-27FD113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07C-2E30-4ADC-8A3C-F156BF3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F28-DE32-4ACD-9CA5-A32C6A7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AF4-56A7-4C7D-8D4C-30E745A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D5A9-6538-4BFE-9C42-7D483F1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9586-D0D0-4D8F-809F-3BECB14B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D66-8CF5-4895-A58A-F5E793D2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96B-84B4-48ED-B31E-B139C9E4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5EE-022E-42E0-8227-4C623980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E49-35B4-4D82-9BA4-444883DF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008-1692-456C-879A-EF22658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C88-E1FA-43B3-9C92-998C145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12B-C76A-474D-9955-1D3107EE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7EF-F11E-46E4-95A9-AE44EAC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F51-600C-4BFC-9561-3E0B84A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40C-F196-4229-8982-56AAA12DE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B75-26EA-495B-89EC-A63BFCF7AAF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343320" y="2314440"/>
            <a:ext cx="50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5520" y="162360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1 is 1800 ohms and RF is 68 kiliohms is 38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3300 ohms and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47 kiliohms is 14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2" name="Picture 4" descr="206a"/>
          <p:cNvPicPr/>
          <p:nvPr/>
        </p:nvPicPr>
        <p:blipFill>
          <a:blip r:embed="rId1"/>
          <a:stretch/>
        </p:blipFill>
        <p:spPr>
          <a:xfrm>
            <a:off x="5532480" y="2392200"/>
            <a:ext cx="3301920" cy="2025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111560" y="41194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23760" y="558000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46000" y="250668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46000" y="304488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68,000/18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419640" y="558000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47,000/33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885960" y="362124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37.77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838840" y="5502240"/>
            <a:ext cx="10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14.24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8544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5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erm "op-amp input-offset voltage" refers to the potential between the amplifier input terminals of the op-amp in a closed-loop condi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Closed loop condition means a feedback loop is present around 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Verdana"/>
              </a:rPr>
              <a:t>the amplifier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input impedance of an integrated circuit op-amp is Very high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output impedance of an integrated circuit op-amp is Very low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hotoconductivity is the increased conductivity of an illuminated semiconduc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2…</a:t>
            </a:r>
            <a:r>
              <a:rPr b="1" lang="en-US" sz="1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onductivity of a photoconductive material increases when light shines on i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In other words the resistance decreases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4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LED and a phototransistor in the same package is an optoiso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ost common configuration for an optocoupler is an LED and a phototransis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265560" y="4811760"/>
            <a:ext cx="3417840" cy="1762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98760" y="3505320"/>
            <a:ext cx="411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Optocoupler and Optoisolator are terms that are used interchangeably for the same device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optical shaft encoder is an array of optocouplers whose light transmission path is controlled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interrupted)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by a rotating wheel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8" name="Picture 4" descr="208"/>
          <p:cNvPicPr/>
          <p:nvPr/>
        </p:nvPicPr>
        <p:blipFill>
          <a:blip r:embed="rId1"/>
          <a:stretch/>
        </p:blipFill>
        <p:spPr>
          <a:xfrm>
            <a:off x="461880" y="2314440"/>
            <a:ext cx="5376960" cy="2516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OpticalShaftEncoder"/>
          <p:cNvPicPr/>
          <p:nvPr/>
        </p:nvPicPr>
        <p:blipFill>
          <a:blip r:embed="rId2"/>
          <a:stretch/>
        </p:blipFill>
        <p:spPr>
          <a:xfrm>
            <a:off x="501480" y="4964040"/>
            <a:ext cx="3380040" cy="1714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878440" y="41590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tocoupler Used for Shaft Enco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919680" y="5464080"/>
            <a:ext cx="391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is drawing illustrates the operation of an optical shaft encoder, often used as a tuning mechanism on modern tranceiver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resistance of the crystalline solid varies when light shines on it because of the photoconductive effec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Cadmium sulfide will exhibit the greatest photoconductive effect when illuminated by visible ligh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4" name="Picture 6" descr="209a"/>
          <p:cNvPicPr/>
          <p:nvPr/>
        </p:nvPicPr>
        <p:blipFill>
          <a:blip r:embed="rId1"/>
          <a:stretch/>
        </p:blipFill>
        <p:spPr>
          <a:xfrm>
            <a:off x="193680" y="3813120"/>
            <a:ext cx="414972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09b"/>
          <p:cNvPicPr/>
          <p:nvPr/>
        </p:nvPicPr>
        <p:blipFill>
          <a:blip r:embed="rId2"/>
          <a:stretch/>
        </p:blipFill>
        <p:spPr>
          <a:xfrm>
            <a:off x="4764240" y="3813120"/>
            <a:ext cx="4109760" cy="2124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1538280" y="60022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hysical circui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646600" y="59641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chematic Diagram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305160" y="3083040"/>
            <a:ext cx="31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Basics for a Photodiode……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Picture 5" descr="209c"/>
          <p:cNvPicPr/>
          <p:nvPr/>
        </p:nvPicPr>
        <p:blipFill>
          <a:blip r:embed="rId1"/>
          <a:stretch/>
        </p:blipFill>
        <p:spPr>
          <a:xfrm>
            <a:off x="1652760" y="1969920"/>
            <a:ext cx="5914800" cy="35258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2805120" y="1547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……</a:t>
            </a: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asics for a Photodio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85960" y="5734080"/>
            <a:ext cx="74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 Photodiode is like an ordinary p-n junction diode with a window to admit light. The light greatly increases reverse leakage curr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5560" y="1469520"/>
            <a:ext cx="84898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94840" indent="-29484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8…</a:t>
            </a:r>
            <a:r>
              <a:rPr b="1" lang="en-US" sz="7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1" lang="en-US" sz="5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Lead sulfide will exhibit the greatest photoconductive effect when illuminated by infrared ligh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94840" indent="-294840">
              <a:lnSpc>
                <a:spcPts val="2398"/>
              </a:lnSpc>
              <a:spcBef>
                <a:spcPts val="45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09…</a:t>
            </a:r>
            <a:r>
              <a:rPr b="1" lang="en-US" sz="500" spc="-1" strike="noStrike">
                <a:solidFill>
                  <a:srgbClr val="000066"/>
                </a:solidFill>
                <a:latin typeface="Rockwel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rystalline semiconductor is affected the most by photo-conductivity when compared to heavy metal, ordinary metal, or a liquid semiconductor</a:t>
            </a: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2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800" spc="-1" strike="noStrike">
                <a:solidFill>
                  <a:srgbClr val="000066"/>
                </a:solidFill>
                <a:latin typeface="Rockwel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ts val="22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Picture 8" descr="209d"/>
          <p:cNvPicPr/>
          <p:nvPr/>
        </p:nvPicPr>
        <p:blipFill>
          <a:blip r:embed="rId1"/>
          <a:stretch/>
        </p:blipFill>
        <p:spPr>
          <a:xfrm>
            <a:off x="1960560" y="1949400"/>
            <a:ext cx="4262400" cy="2500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2459160" y="4543560"/>
            <a:ext cx="33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Schematic Symbol of Photodiod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15080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……</a:t>
            </a: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asics for a Photodio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469520"/>
            <a:ext cx="507204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haracteristic of optoisolators that are often used in power supplies is that they have very high impedance between the light source and the phototransis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1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ecause optoisolators provide a very high degree of electrical isolation between a control circuit and a power circuit it makes them suitable for use with a triac to form the solid-state equivalent of a mechanical relay for 120 V AC household circui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454720" y="3889440"/>
            <a:ext cx="2689200" cy="2347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5340240" y="619452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Optoisolator for 120 Volts A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Picture 6" descr="210"/>
          <p:cNvPicPr/>
          <p:nvPr/>
        </p:nvPicPr>
        <p:blipFill>
          <a:blip r:embed="rId2"/>
          <a:stretch/>
        </p:blipFill>
        <p:spPr>
          <a:xfrm>
            <a:off x="5416560" y="1585800"/>
            <a:ext cx="2803680" cy="21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1768320" y="2968560"/>
            <a:ext cx="36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This makes them an excellent choice for controlling high voltages with a low isolated voltage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8220240" y="3160800"/>
            <a:ext cx="10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Optical Coupling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Gallium arsenide photovoltaic cell has the highest efficienc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pproximate open-circuit voltage produced by a fully-illuminated silicon photovoltaic cell 0.5 Vol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Electrons absorb the energy from light falling on a photovoltaic cell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539640" y="4465800"/>
            <a:ext cx="2227320" cy="179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3305160" y="4465800"/>
            <a:ext cx="2265480" cy="180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1844640" y="2852640"/>
            <a:ext cx="52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Twenty seven cells would be required to produce 13.5 volts for charging a 12 volt battery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Picture 14" descr="WomanSolarPanals"/>
          <p:cNvPicPr/>
          <p:nvPr/>
        </p:nvPicPr>
        <p:blipFill>
          <a:blip r:embed="rId3"/>
          <a:stretch/>
        </p:blipFill>
        <p:spPr>
          <a:xfrm>
            <a:off x="6031080" y="4503600"/>
            <a:ext cx="23032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F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ilicon is the most common type of photovoltaic cell used for electrical power generatio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4687920" y="2776680"/>
            <a:ext cx="4300560" cy="289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hotovoltaicCell"/>
          <p:cNvPicPr/>
          <p:nvPr/>
        </p:nvPicPr>
        <p:blipFill>
          <a:blip r:embed="rId2"/>
          <a:stretch/>
        </p:blipFill>
        <p:spPr>
          <a:xfrm>
            <a:off x="231840" y="2814480"/>
            <a:ext cx="4300560" cy="28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076480" y="308304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ptops &amp; OpAmps Plus Sola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n operational amplif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high-gain, direct-coupled differential amplifier whose characteristics are determined by components external to the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high-gain, direct-coupled audio amplifier whose characteristics are determined by components external to the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 amplifier used to increase the average output of frequency modulated amateur signals to the legal lim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 program subroutine that calculates the gain of an RF amplifie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etermines the gain and frequency characteristics of an op-amp RC active fil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alues of capacitors and resistors built into the op-amp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alues of capacitors and resistors external to the op-amp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voltage and frequency of the op-amp's DC power suppl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output voltage and smoothness of the op-amp's DC power suppl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causes ringing in a fil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slew rate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bandwidth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frequency and phase response of the filter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gain of the filt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he advantages of using an op-amp instead of LC elements in an audio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more rugged and can withstand more abuse than can LC el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fixed at one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are available in more varieties than are LC element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Op-amps exhibit gain rather than insertion los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capacitor types is best suited for use in high-stability op-amp RC active filter circu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Electrolyt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Disc ceram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lystyren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aper dielectri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can unwanted ringing and audio instability be prevented in a multi-section op-amp RC audio filter circu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both gain and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gain, but increase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strict Q, but increase gai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crease both gain and Q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steps are typically followed when selecting the external components for an op-amp RC active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capacitor values are chosen first, the resistances are calculated, and resistors of the nearest standard value are us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values are chosen first, the capacitances are calculated, and capacitors of the nearest standard value are us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and capacitor values are used, the circuit is tested, and additional resistors are added to make any needed adjust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Standard resistor and capacitor values are used, the circuit is tested, and additional capacitors are added to make any needed adjustment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the most appropriate use of an op-amp RC active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 high-pass filter used to block RFI at the input to receive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 low-pass filter used between a transmitter and a transmission lin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For smoothing power-supply outpu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s an audio receiving filt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 following is a type of active op-amp filter circu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generative feedback resona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elical resona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ilbert cel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allen-Key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10 ohms and RF is 470 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40012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2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9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4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4264200" y="1892160"/>
          <a:ext cx="307332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4200" y="1892160"/>
                    <a:ext cx="307332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does the gain of a theoretically ideal operational amplifier vary with frequ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increases linear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ecreases linear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ecreases logarithmically with increasing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does not vary with frequenc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will be the output voltage of the circuit shown in Figure E7-4 if R1 is 1000 ohms, RF is 10,000 ohms, and 0.23 volts is applied to the inp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37828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2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.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-0.2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-2.3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5070600" y="1778040"/>
          <a:ext cx="322740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0600" y="1778040"/>
                    <a:ext cx="32274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1800 ohms and RF is 68 kil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59236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03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3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7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149720" y="1816200"/>
          <a:ext cx="341784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816200"/>
                    <a:ext cx="341784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voltage gain can be expected from the circuit in Figure E7-4 when R1 is 3300 ohms and RF is 47 kiloh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706400"/>
            <a:ext cx="220824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20720" indent="-72072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07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4111560" y="1547640"/>
          <a:ext cx="341784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560" y="1547640"/>
                    <a:ext cx="341784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meant by the term "op-amp input-offset voltag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9600" y="154728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output voltage of the op-amp minus its input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difference between the output voltage of the op-amp and the input voltage required in the immediately following s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otential between the amplifier input terminals of the op-amp in a closed-loop condi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otential between the amplifier input terminals of the op-amp in an open-loop condi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typical input impedance of an integrated circuit op-a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low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hig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G1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typical output impedance of an integrated circuit op-a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low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Very hig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000 ohm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photoconductiv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onversion of photon energy to electromotive energ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creased conductivity of an illuminated semiconductor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onversion of electromotive energy to photon energ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decreased conductivity of an illuminated semiconductor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happens to the conductivity of a photo-conductive material when light shines o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increas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decreas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stays the sam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It becomes unstabl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8344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4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operational amplifier is a high-gain, direct-coupled differential amplifier whose characteristics are (response is) determined by components external to the amplifie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alues of capacitors and resistors external to the op-amp determine the gain and frequency characteristics of an op-amp RC active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4" descr="204a"/>
          <p:cNvPicPr/>
          <p:nvPr/>
        </p:nvPicPr>
        <p:blipFill>
          <a:blip r:embed="rId1"/>
          <a:stretch/>
        </p:blipFill>
        <p:spPr>
          <a:xfrm>
            <a:off x="1960560" y="3313080"/>
            <a:ext cx="6951600" cy="340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61880" y="5810400"/>
            <a:ext cx="15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erational Amplifier Basic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00" y="2412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is an optoiso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LED and a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P-N junction that develops an excess positive charge when exposed to ligh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LED and a capaci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P-N junction that develops an excess negative charge when exposed to light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120" y="39528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the most common configuration for an optocoupl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ens and a photomultipli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frequency modulated helium-neon las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n amplitude modulated helium-neon las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n LED and a phototransis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n optical shaft enco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neon or LED indicators whose light transmission path is controlled by a rotating whe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optocouplers whose light transmission path is controlled by a rotating whe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neon or LED indicators mounted on a rotating wheel in a coded patter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array of optocouplers mounted on a rotating wheel in a coded patter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characteristic of a crystalline solid will photoconductivity chan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capaci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induc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specific gravity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The resista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material will exhibit the greatest photo-conductive effect when illuminated by visible l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0000" y="17395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tassium nitrat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Lead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odium chlor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ich material will exhibit the greatest photo-conductive effect when illuminated by infrared l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otassium nitrat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Lead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odium chlor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00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 following materials is affected the most by photocon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crystalline semicondu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n ordinary metal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heavy metal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 liquid semicondu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characteristic of optoisolators is often used in power suppl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low impedance between the light source and the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very high impedance between the light source and the photo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low impedance between the light source and the L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y have very high impedance between the light source and the L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characteristic of optoisolators makes them suitable for use with a triac to form the solid-state equivalent of a mechanical relay for a 120 V AC household circu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a low impedance link between a control circuit and a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impedance matching between the control circuit and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provide a very high degree of electrical isolation between a control circuit and a power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Optoisolators eliminate (isolate) the effects of reflected light in the control circui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types of photovoltaic cell has the highest efficien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icon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ver iod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elenium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Gallium arsen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2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Ringing in a filter is caused by frequency and phase response of the filter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non linear group delay)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4" name="Picture 5" descr="204b"/>
          <p:cNvPicPr/>
          <p:nvPr/>
        </p:nvPicPr>
        <p:blipFill>
          <a:blip r:embed="rId1"/>
          <a:stretch/>
        </p:blipFill>
        <p:spPr>
          <a:xfrm>
            <a:off x="1998720" y="1623960"/>
            <a:ext cx="6913440" cy="3976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61880" y="4543560"/>
            <a:ext cx="153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perational Amplifier Basic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81aea"/>
                </a:solidFill>
                <a:latin typeface="Rockwell"/>
              </a:rPr>
              <a:t>cont.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800680" y="4581360"/>
            <a:ext cx="5382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the approximate open-circuit voltage produced by a fully-illuminated silicon photovoltaic c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1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0.5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.5 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absorbs the energy from light falling on a photovoltaic cel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rot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Phot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Electr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F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most common type of photo-voltaic cell used for electrical power gen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elenium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Silico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admium Sulf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Copper ox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5520" y="166176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3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dvantages of using an op-amp instead of LC elements in an audio filter is that Op-amps exhibit gain rather than insertion los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4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olystyrene capacitor is best suited for use in high-stability op-amp RC active filter circuits.</a:t>
            </a: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5…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Unwanted ringing and audio instability can be prevented in a multi-section op-amp RC audio filter circuit by restricting both gain and Q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6…</a:t>
            </a: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tandard capacitor values are chosen first, then the resistances are calculated, and resistors of the nearest standard value selected for the external components in an op-amp RC active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ost appropriate use of an op-amp RC active filter is as an audio receiving filte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Ideally, an op amp has infinite input impedance (Z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, zero output impedance (Z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O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 and an open loop voltage gain (A</a:t>
            </a:r>
            <a:r>
              <a:rPr b="0" i="1" lang="en-US" sz="1600" spc="-1" strike="noStrike" baseline="-25000">
                <a:solidFill>
                  <a:srgbClr val="381aea"/>
                </a:solidFill>
                <a:latin typeface="Rockwell"/>
              </a:rPr>
              <a:t>V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) of infinity. Obviously, practical op amps do not meet these specifications, but they do come closer than most other types of amplifier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The gain of an op amp is the function of the input resistor and the feed back resistor.  Gain in calculated by dividing the input resistor 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 value into the feedback resistor 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.  In figure E7-4 if the input resistor,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, is 10,000 ohms and the feedback resistor ,R</a:t>
            </a:r>
            <a:r>
              <a:rPr b="1" lang="en-US" sz="16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, 1s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1,000,000 ohms the gain would be 1,000,0000 / 10,000   or a gain of 100.  The output is inverted in this configuration when the signal is feed into the – pin of the op amp.  This is the most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commonly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 used configuration.   The op amp can be configured in a non inverting mode so the out put signal is the same polarity as the input signa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995640" y="4863960"/>
            <a:ext cx="3456000" cy="19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allen-Key 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(named after the equation designers)</a:t>
            </a: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s a type of active op-amp filter circui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E7G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voltage gain that can be expected from the circuit in Figure E7-4 when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 ohms and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470 ohms is 47.</a:t>
            </a: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(The gain is actually -47 since the output is inverted, that is the output 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Verdana"/>
              </a:rPr>
              <a:t>polarity is opposite the input polarity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46040" y="5810400"/>
            <a:ext cx="24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26040" y="58104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470 / 1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53360" y="577224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47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8" descr="206a"/>
          <p:cNvPicPr/>
          <p:nvPr/>
        </p:nvPicPr>
        <p:blipFill>
          <a:blip r:embed="rId1"/>
          <a:stretch/>
        </p:blipFill>
        <p:spPr>
          <a:xfrm>
            <a:off x="2843280" y="3160800"/>
            <a:ext cx="2649600" cy="174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5532480" y="45813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ptos &amp; OpAmps Plus So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98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0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gain of a </a:t>
            </a:r>
            <a:r>
              <a:rPr b="0" i="1" lang="en-US" sz="2000" spc="-1" strike="noStrike" u="sng">
                <a:solidFill>
                  <a:srgbClr val="381aea"/>
                </a:solidFill>
                <a:uFillTx/>
                <a:latin typeface="Rockwell"/>
              </a:rPr>
              <a:t>theoretically ideal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operational amplifier does not vary with frequency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G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output voltage of the circuit shown in Figure E7-4 if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00 ohms,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Rockwel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is 10,000 ohms, and 0.23 volts is applied to the input is – 2.3 volt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Picture 4" descr="206a"/>
          <p:cNvPicPr/>
          <p:nvPr/>
        </p:nvPicPr>
        <p:blipFill>
          <a:blip r:embed="rId1"/>
          <a:stretch/>
        </p:blipFill>
        <p:spPr>
          <a:xfrm>
            <a:off x="6184800" y="3160800"/>
            <a:ext cx="2649600" cy="1747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723000" y="48880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7-4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08200" y="3583080"/>
            <a:ext cx="24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Gain =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F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/ R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75080" y="35830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10,000/100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41960" y="3544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1aea"/>
                </a:solidFill>
                <a:latin typeface="Rockwell"/>
              </a:rPr>
              <a:t>10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08200" y="4197240"/>
            <a:ext cx="43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utput Voltage = Input Voltage x Gai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923760" y="4581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23 volts x 10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846000" y="500364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- 2.3 vol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85960" y="5541840"/>
            <a:ext cx="57229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(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Remember this operational amplifier configuration is an inverting operational amplifier</a:t>
            </a:r>
            <a:r>
              <a:rPr b="0" lang="en-US" sz="2000" spc="-1" strike="noStrike">
                <a:solidFill>
                  <a:srgbClr val="381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1:43Z</dcterms:modified>
  <cp:revision>104</cp:revision>
  <dc:subject/>
  <dc:title>Amateur Extra Licensing Class</dc:title>
</cp:coreProperties>
</file>