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9.jpeg" ContentType="image/jpeg"/>
  <Override PartName="/ppt/media/image8.wmf" ContentType="image/x-wmf"/>
  <Override PartName="/ppt/media/image12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6.jpeg" ContentType="image/jpeg"/>
  <Override PartName="/ppt/media/image14.wmf" ContentType="image/x-wmf"/>
  <Override PartName="/ppt/media/image10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D80B-7F35-4DD0-A7EB-EFDBF8D57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1BC2-7442-4494-98AE-A6D55D821AEA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C175-7CAE-48FE-8A45-5D1E90BA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550B-7A96-4C7B-A17F-9475C30A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B7B-F404-4140-8B29-F7289FFF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B36-5E20-4E1F-B655-A0CF9F25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9FD1-0E3D-408E-B574-D913D2C0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7ABA-DEA7-4682-A5E2-A25C53F5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FCEB-491E-4051-AE0E-9E4AB483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27D8-FF6D-4505-B5E7-C6FB38AF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24BC-7649-47CE-8ADF-59089C58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45BD-3F04-40B1-AAB5-09AFF1EB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B111-42FF-4AE0-BD29-491FF4D3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021E-E012-4869-8F5F-C509DB6B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91FD-EC81-4F6F-A477-D58F3716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94FC-0193-498C-B713-D130EB40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DFE5-3858-4B37-85E8-BCD86836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07AD-8A15-401D-B055-6131DBAF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EF3A-3186-4F05-9AD8-F44C0D33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612-1017-41BC-9197-BE85CD7B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F589-4032-421E-AEBA-BADF98D5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CB12-FFCF-4274-9631-ACB0B3E0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77BA-466F-4B9B-A16F-094F5156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82A2-C4EB-4B6D-A2CB-F671EFCE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7B9-9901-4254-A796-CFCFF05F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0C8-5255-4A5E-852A-8E32E3EF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C1A8-AD04-4489-85EA-F86A76880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6892-D8FB-4E23-908A-9534A273E85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600" y="407880"/>
            <a:ext cx="86104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mateur Extra Licensing Cla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03800" y="4235040"/>
            <a:ext cx="340344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Presented b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W5YI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574560"/>
                <a:tab algn="l" pos="1031760"/>
                <a:tab algn="l" pos="1488960"/>
                <a:tab algn="l" pos="1946160"/>
                <a:tab algn="l" pos="2403360"/>
                <a:tab algn="l" pos="2860560"/>
                <a:tab algn="l" pos="3317760"/>
                <a:tab algn="l" pos="3774960"/>
                <a:tab algn="l" pos="4232160"/>
                <a:tab algn="l" pos="4689360"/>
                <a:tab algn="l" pos="5146560"/>
                <a:tab algn="l" pos="5603760"/>
                <a:tab algn="l" pos="6060960"/>
                <a:tab algn="l" pos="6518160"/>
                <a:tab algn="l" pos="6975360"/>
                <a:tab algn="l" pos="7432560"/>
                <a:tab algn="l" pos="7889760"/>
                <a:tab algn="l" pos="8346960"/>
                <a:tab algn="l" pos="8804160"/>
                <a:tab algn="l" pos="92613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Arlington, Texa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1" name="Picture 4" descr="elmer-n-ham"/>
          <p:cNvPicPr/>
          <p:nvPr/>
        </p:nvPicPr>
        <p:blipFill>
          <a:blip r:embed="rId1"/>
          <a:stretch/>
        </p:blipFill>
        <p:spPr>
          <a:xfrm>
            <a:off x="0" y="1623960"/>
            <a:ext cx="2114640" cy="2189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421000" y="2506680"/>
            <a:ext cx="65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1515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3" name="Picture 6" descr="1"/>
          <p:cNvPicPr/>
          <p:nvPr/>
        </p:nvPicPr>
        <p:blipFill>
          <a:blip r:embed="rId2"/>
          <a:stretch/>
        </p:blipFill>
        <p:spPr>
          <a:xfrm>
            <a:off x="0" y="3929040"/>
            <a:ext cx="19512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16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phase-locked loop circuit is an electronic servo loop consisting of a phase detector, a low-pass filter and voltage-controlled oscillator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2" name="Picture 4" descr="144a"/>
          <p:cNvPicPr/>
          <p:nvPr/>
        </p:nvPicPr>
        <p:blipFill>
          <a:blip r:embed="rId1"/>
          <a:stretch/>
        </p:blipFill>
        <p:spPr>
          <a:xfrm>
            <a:off x="501480" y="2314440"/>
            <a:ext cx="8102880" cy="2444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144b"/>
          <p:cNvPicPr/>
          <p:nvPr/>
        </p:nvPicPr>
        <p:blipFill>
          <a:blip r:embed="rId2"/>
          <a:stretch/>
        </p:blipFill>
        <p:spPr>
          <a:xfrm>
            <a:off x="1308240" y="4917960"/>
            <a:ext cx="6529320" cy="194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17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Both frequency synthesis and FM demodulation can be performed by a phase-locked loop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10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direct digital synthesizer circuit uses a phase accumulator, lookup table, digital to analog converter and a low-pass anti-alias filter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13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Phase accumulator circuit would be classified as a principal component of a direct digital synthesizer (DDS)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3381480" y="3006720"/>
            <a:ext cx="2457360" cy="23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11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Information contained in the lookup table of a direct digital frequency synthesizer contains the amplitude values that represent a sine-wave output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Can also contain complex non sinusoidal waveforms, for complex 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waveform simulation and generation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9" name="Picture 4" descr="146-1"/>
          <p:cNvPicPr/>
          <p:nvPr/>
        </p:nvPicPr>
        <p:blipFill>
          <a:blip r:embed="rId1"/>
          <a:stretch/>
        </p:blipFill>
        <p:spPr>
          <a:xfrm>
            <a:off x="1308240" y="3083040"/>
            <a:ext cx="6643440" cy="3294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2114640" y="6424560"/>
            <a:ext cx="61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DDS Sub Loop of a Transmitter Dual-Loop PL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91440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12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Spurs at discrete frequencies are the major spectral impurity components of direct digital synthesizer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ts val="1599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A direct digital synthesizer has spurious outputs because the DAC’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ts val="1599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(</a:t>
            </a:r>
            <a:r>
              <a:rPr b="1" i="1" lang="en-US" sz="1800" spc="-1" strike="noStrike">
                <a:solidFill>
                  <a:srgbClr val="381aea"/>
                </a:solidFill>
                <a:latin typeface="Rockwell"/>
              </a:rPr>
              <a:t>D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igital to </a:t>
            </a:r>
            <a:r>
              <a:rPr b="1" i="1" lang="en-US" sz="1800" spc="-1" strike="noStrike">
                <a:solidFill>
                  <a:srgbClr val="381aea"/>
                </a:solidFill>
                <a:latin typeface="Rockwell"/>
              </a:rPr>
              <a:t>A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nalog </a:t>
            </a:r>
            <a:r>
              <a:rPr b="1" i="1" lang="en-US" sz="1800" spc="-1" strike="noStrike">
                <a:solidFill>
                  <a:srgbClr val="381aea"/>
                </a:solidFill>
                <a:latin typeface="Rockwell"/>
              </a:rPr>
              <a:t>C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onverters) are not perfect and periodic errors result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ts val="18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263880" indent="-263880">
              <a:lnSpc>
                <a:spcPts val="19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15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frequency range over which a phase-locked loop circuit can lock is its capture range.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ts val="19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ts val="19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ts val="19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ts val="19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ts val="19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ts val="19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263880" indent="-263880">
              <a:lnSpc>
                <a:spcPts val="19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19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phase-locked loop is often used as part of a variable frequency synthesizer for receivers and transmitters because it makes it possible for a VFO to have the same degree of stability as a crystal oscillator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3" name="Picture 6" descr="146-2"/>
          <p:cNvPicPr/>
          <p:nvPr/>
        </p:nvPicPr>
        <p:blipFill>
          <a:blip r:embed="rId1"/>
          <a:stretch/>
        </p:blipFill>
        <p:spPr>
          <a:xfrm>
            <a:off x="4994280" y="3583080"/>
            <a:ext cx="2997360" cy="2023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1230480" y="4695840"/>
            <a:ext cx="372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Modern transceivers, like this small hand-held, use PLLs to lock on to the receiving frequency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18… 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stable reference oscillator is normally used as part of a phase locked loop (PLL) frequency synthesizer because any phase variations in the reference oscillator signal will produce phase noise in the synthesizer output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7" name="Picture 8" descr="147"/>
          <p:cNvPicPr/>
          <p:nvPr/>
        </p:nvPicPr>
        <p:blipFill>
          <a:blip r:embed="rId1"/>
          <a:stretch/>
        </p:blipFill>
        <p:spPr>
          <a:xfrm>
            <a:off x="654120" y="3006720"/>
            <a:ext cx="8028000" cy="28908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9"/>
          <p:cNvSpPr/>
          <p:nvPr/>
        </p:nvSpPr>
        <p:spPr>
          <a:xfrm>
            <a:off x="2036880" y="5886360"/>
            <a:ext cx="57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An oscillator outputs a signal of constant frequency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20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major spectral impurity component of phase-locked loop synthesizers is phase noise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19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ts val="19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14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phase locked loop circuit is often used in conjunction with a direct digital synthesizer (DDS) to expand the available tuning range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461880" y="1662120"/>
            <a:ext cx="4378320" cy="21495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1806480" y="1662120"/>
            <a:ext cx="2803680" cy="1959120"/>
          </a:xfrm>
          <a:prstGeom prst="rect">
            <a:avLst/>
          </a:prstGeom>
          <a:solidFill>
            <a:srgbClr val="624ef8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994280" y="308304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Shaded area is the Phase Locked Loop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tretch/>
        </p:blipFill>
        <p:spPr>
          <a:xfrm>
            <a:off x="4033800" y="4389480"/>
            <a:ext cx="2362320" cy="11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62000" y="1892160"/>
            <a:ext cx="718200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Element 4 Extra Class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Question Pool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033800" y="4695840"/>
            <a:ext cx="380196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Valid July 1, 2008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Through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  <a:ea typeface="Tahoma"/>
              </a:rPr>
              <a:t>June 30, 2012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7" name="Picture 4" descr="elmer-n-ham"/>
          <p:cNvPicPr/>
          <p:nvPr/>
        </p:nvPicPr>
        <p:blipFill>
          <a:blip r:embed="rId1"/>
          <a:stretch/>
        </p:blipFill>
        <p:spPr>
          <a:xfrm>
            <a:off x="0" y="1508040"/>
            <a:ext cx="2133720" cy="2189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1"/>
          <p:cNvPicPr/>
          <p:nvPr/>
        </p:nvPicPr>
        <p:blipFill>
          <a:blip r:embed="rId2"/>
          <a:stretch/>
        </p:blipFill>
        <p:spPr>
          <a:xfrm>
            <a:off x="0" y="3929040"/>
            <a:ext cx="1951200" cy="29289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2152800" y="3121200"/>
            <a:ext cx="67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120" y="35712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H01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three major oscillator circuits often used in Amateur Radio equip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Taft, Pierce and negative feedback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Pierce, Fenner and Beane 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Taft, Hartley and Pierc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Colpitts, Hartley and Pierc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3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4120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02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condition must exist for a circuit to oscill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ts val="4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must have at least two stages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ts val="4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must be neutralized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must have a positive feedback loop with a gain greater than 1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must have negative feedback sufficient to cancel the input signa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184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0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 is positive feedback supplied in a Hartley oscillat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Through a tapped coil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Through a capacitive divider 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Through link coupling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Through a neutralizing capacito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lement 4 Course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151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Rockwell"/>
              </a:rPr>
              <a:t>ELEMENT 4 Grouping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Rules &amp; Reg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Skywaves &amp; Contesting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Outer Space Comm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Visuals &amp; Video Mod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Digital Excitement with Computers &amp; Radio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Modulate Your Transmit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Amps &amp; Power Supplie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Receivers with Great Fil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184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E7H04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 is positive feedback supplied in a Colpitts oscillat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7000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Through a tapped coil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Through link coupling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Through a capacitive divide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Through a neutralizing capacito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47160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05 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How is positive feedback supplied in a Pierce oscillato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Through a tapped coil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Through link coupling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Through a neutralizing capacito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Through a quartz crystal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84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06 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ich type of oscillator circuits are commonly used in VFO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60" y="1699920"/>
            <a:ext cx="889344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Pierce and Zene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Colpitts and Hartley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rmstrong and deFores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Negative feedback and Balanced feedback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07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What is a magnetron oscill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31840" y="154728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oscillator in which the output is fed back to the input by the magnetic field of a transformer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crystal oscillator in which variable frequency is obtained by placing the crystal in a strong magnetic field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 UHF or microwave oscillator consisting of a diode vacuum tube with a specially shaped anode, surrounded by an external magne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 reference standard oscillator in which the oscillations are synchronized by magnetic coupling to a rubidium gas tub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08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is a Gunn diode oscillato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88930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 oscillator based on the negative resistance properties of properly-doped semiconductor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n oscillator based on the argon gas diod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highly stable reference oscillator based on the tee-notch principl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 highly stable reference oscillator based on the hot-carrier effect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9600" y="43344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0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at type of frequency synthesizer circuit uses a stable voltage-controlled oscillator, programmable divider, phase detector, loop filter and a reference frequency sour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direct digital synthesiz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hybrid synthesiz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phase locked loop synthesiz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diode-switching matrix synthesiz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0000" y="2793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16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at is a phase-locked loop circui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electronic servo loop consisting of a ratio detector, reactance modulator, and voltage-controlled oscillator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electronic circuit also known as a monostable multivibrator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electronic servo loop consisting of a phase detector, a low-pass filter and voltage-controlled oscillator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n electronic circuit consisting of a precision push-pull amplifier with a differential inpu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960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17 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Which of these functions can be performed by a phase-locked loo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3184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ts val="36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Wide-band AF and RF power amplificatio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ts val="36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Comparison of two digital input signals, digital pulse count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ts val="36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Photovoltaic conversion, optical coupling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ts val="36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Frequency synthesis, FM demodulatio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4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000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10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type of frequency synthesizer circuit uses a phase accumulator, lookup table, digital to analog converter and a low-pass anti-alias fil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direct digital synthesiz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hybrid synthesiz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phase locked loop synthesiz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A diode-switching matrix synthesiz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120" y="35712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13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ich of these circuits would be classified as a principal component of a direct digital synthesizer (DDS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3184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Phase splitt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Hex inverte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Chroma demodulato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Phase accumulator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lement 4 Course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151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Rockwell"/>
              </a:rPr>
              <a:t>ELEMENT 4 Grouping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515"/>
                </a:solidFill>
                <a:latin typeface="Rockwell"/>
              </a:rPr>
              <a:t>Oscillate &amp; Synthesize This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Circuits &amp; Resonance for All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Components in Your New Rig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Logically Speaking of Counte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Optos &amp; OpAmps Plus Sola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Test Gear, Testing, Testing 1,2,3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Antenna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Rockwell"/>
              </a:rPr>
              <a:t>Feedlines &amp; Safet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3320" y="317520"/>
            <a:ext cx="8642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information is contained in the lookup table of a direct digital frequency synthesiz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phase relationship between a reference oscillator and the output waveform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amplitude values that represent a sine-wave outpu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phase relationship between a voltage-controlled oscillator and the output waveform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The synthesizer frequency limits and frequency values stored in the radio memori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776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12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are the major spectral impurity components of direct digital synthesiz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3184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Broadband nois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Digital conversion nois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Spurs at discrete frequencie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Nyquist limit nois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" y="47160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15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is the capture range of a phase-locked loop circu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frequency range over which the circuit can lock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voltage range over which the circuit can lock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input impedance range over which the circuit can lock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The range of time it takes the circuit to lock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5520" y="279360"/>
            <a:ext cx="89884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19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y is a phase-locked loop often used as part of a variable frequency synthesizer for receivers and transmitt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generates FM sideband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eliminates the need for a voltage controlled oscillato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makes it possible for a VFO to have the same degree of stability as a crystal oscillator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ts val="3197"/>
              </a:lnSpc>
              <a:spcBef>
                <a:spcPts val="799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t can be used to generate or demodulate SSB signals by quadrature phase synchronization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2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9600" y="395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18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y is a stable reference oscillator normally used as part of a phase locked loop (PLL) frequency synthesiz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3184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ny amplitude variations in the reference oscillator signal will prevent the loop from locking to the desired signa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ny phase variations in the reference oscillator signal will produce phase noise in the synthesizer outpu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ny phase variations in the reference oscillator signal will produce harmonic distortion in the modulating signa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ockwell"/>
              </a:rPr>
              <a:t>Any amplitude variations in the reference oscillator signal will prevent the loop from changing frequenc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592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20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are the major spectral impurity components of phase-locked loop synthesiz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3184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Broadband nois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Digital conversion nois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Spurs at discrete frequencies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Nyquist limit nois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7936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7H14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at circuit is often used in conjunction with a direct digital synthesizer (DDS) to expand the available tuning r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3184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Binary expande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J-K flip-flop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Phase locked loop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1515"/>
              </a:buClr>
              <a:buFont typeface="Rockwel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Compande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1515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60" y="1661760"/>
            <a:ext cx="887112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01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The Colpitts, Hartley and Pierce are the three major oscillator circuits often used in Amateur Radio equipment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0" name="Picture 6" descr="PierceOsc"/>
          <p:cNvPicPr/>
          <p:nvPr/>
        </p:nvPicPr>
        <p:blipFill>
          <a:blip r:embed="rId1"/>
          <a:stretch/>
        </p:blipFill>
        <p:spPr>
          <a:xfrm>
            <a:off x="6568920" y="2776680"/>
            <a:ext cx="2421000" cy="1917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olpittsOsc"/>
          <p:cNvPicPr/>
          <p:nvPr/>
        </p:nvPicPr>
        <p:blipFill>
          <a:blip r:embed="rId2"/>
          <a:stretch/>
        </p:blipFill>
        <p:spPr>
          <a:xfrm>
            <a:off x="117360" y="2738520"/>
            <a:ext cx="3265560" cy="1920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HartleyOsc"/>
          <p:cNvPicPr/>
          <p:nvPr/>
        </p:nvPicPr>
        <p:blipFill>
          <a:blip r:embed="rId3"/>
          <a:stretch/>
        </p:blipFill>
        <p:spPr>
          <a:xfrm>
            <a:off x="3611520" y="2776680"/>
            <a:ext cx="2727360" cy="1919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615960" y="492768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1aea"/>
                </a:solidFill>
                <a:latin typeface="Rockwell"/>
              </a:rPr>
              <a:t>Colpitts</a:t>
            </a:r>
            <a:r>
              <a:rPr b="0" lang="en-US" sz="1800" spc="-1" strike="noStrike">
                <a:solidFill>
                  <a:srgbClr val="381aea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381aea"/>
                </a:solidFill>
                <a:latin typeface="Rockwell"/>
              </a:rPr>
              <a:t>(has capacitor)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957480" y="49276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1aea"/>
                </a:solidFill>
                <a:latin typeface="Rockwell"/>
              </a:rPr>
              <a:t>Hartley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 </a:t>
            </a:r>
            <a:r>
              <a:rPr b="0" lang="en-US" sz="1000" spc="-1" strike="noStrike">
                <a:solidFill>
                  <a:srgbClr val="381aea"/>
                </a:solidFill>
                <a:latin typeface="Rockwell"/>
              </a:rPr>
              <a:t>(is tapped)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684840" y="4927680"/>
            <a:ext cx="21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1aea"/>
                </a:solidFill>
                <a:latin typeface="Rockwell"/>
              </a:rPr>
              <a:t>Pierce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 </a:t>
            </a:r>
            <a:r>
              <a:rPr b="0" lang="en-US" sz="1000" spc="-1" strike="noStrike">
                <a:solidFill>
                  <a:srgbClr val="381aea"/>
                </a:solidFill>
                <a:latin typeface="Rockwell"/>
              </a:rPr>
              <a:t>(has crystal)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959200" y="5964120"/>
            <a:ext cx="38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Three major types of Oscillators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02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For a circuit to oscillate it must have a positive feedback loop with a gain greater than 1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5570640" y="2354400"/>
            <a:ext cx="3416040" cy="176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142a"/>
          <p:cNvPicPr/>
          <p:nvPr/>
        </p:nvPicPr>
        <p:blipFill>
          <a:blip r:embed="rId2"/>
          <a:stretch/>
        </p:blipFill>
        <p:spPr>
          <a:xfrm>
            <a:off x="155520" y="2314440"/>
            <a:ext cx="5068800" cy="18129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2575080" y="4159080"/>
            <a:ext cx="52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Rockwell"/>
              </a:rPr>
              <a:t>Amplifier with Positive Feedback - Oscillator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2" name="Picture 9" descr="142b"/>
          <p:cNvPicPr/>
          <p:nvPr/>
        </p:nvPicPr>
        <p:blipFill>
          <a:blip r:embed="rId3"/>
          <a:stretch/>
        </p:blipFill>
        <p:spPr>
          <a:xfrm>
            <a:off x="193680" y="4657680"/>
            <a:ext cx="5492880" cy="1685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0"/>
          <p:cNvSpPr/>
          <p:nvPr/>
        </p:nvSpPr>
        <p:spPr>
          <a:xfrm>
            <a:off x="6108840" y="4888080"/>
            <a:ext cx="272556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Oscillators –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ts val="19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An oscillator is basically an amplifier with positive feedback from output to input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960560" y="630864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Rockwell"/>
              </a:rPr>
              <a:t>Oscillator Waveform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03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Positive feedback is supplied in a Hartley oscillator through a tapped coil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Remember Hartley uses a tapped coil for feedback. 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lnSpc>
                <a:spcPts val="15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lnSpc>
                <a:spcPts val="1397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7" name="Picture 5" descr="HartleyOsc"/>
          <p:cNvPicPr/>
          <p:nvPr/>
        </p:nvPicPr>
        <p:blipFill>
          <a:blip r:embed="rId1"/>
          <a:stretch/>
        </p:blipFill>
        <p:spPr>
          <a:xfrm>
            <a:off x="1154160" y="2852640"/>
            <a:ext cx="3610080" cy="2589480"/>
          </a:xfrm>
          <a:prstGeom prst="rect">
            <a:avLst/>
          </a:prstGeom>
          <a:ln w="0">
            <a:noFill/>
          </a:ln>
        </p:spPr>
      </p:pic>
      <p:sp>
        <p:nvSpPr>
          <p:cNvPr id="118" name="Line 6"/>
          <p:cNvSpPr/>
          <p:nvPr/>
        </p:nvSpPr>
        <p:spPr>
          <a:xfrm>
            <a:off x="5454720" y="2506680"/>
            <a:ext cx="39600" cy="3687840"/>
          </a:xfrm>
          <a:prstGeom prst="line">
            <a:avLst/>
          </a:prstGeom>
          <a:ln cap="sq" w="38160">
            <a:solidFill>
              <a:srgbClr val="ff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 flipH="1" flipV="1">
            <a:off x="1768320" y="4773240"/>
            <a:ext cx="3726000" cy="1420920"/>
          </a:xfrm>
          <a:prstGeom prst="line">
            <a:avLst/>
          </a:prstGeom>
          <a:ln cap="sq" w="3816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992920" y="4735440"/>
            <a:ext cx="29574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Henry is the measure of inductance of the coil in a Hartley oscillator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04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Positive feedback is supplied in a Colpitts oscillator through a capacitive divider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3" name="Picture 4" descr="ColpittsOsc"/>
          <p:cNvPicPr/>
          <p:nvPr/>
        </p:nvPicPr>
        <p:blipFill>
          <a:blip r:embed="rId1"/>
          <a:stretch/>
        </p:blipFill>
        <p:spPr>
          <a:xfrm>
            <a:off x="1652760" y="2890800"/>
            <a:ext cx="4046400" cy="2548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1460520" y="2238480"/>
            <a:ext cx="55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381aea"/>
                </a:solidFill>
                <a:latin typeface="Rockwell"/>
              </a:rPr>
              <a:t>Remember C for Colpitts and capacitive divider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6222960" y="2698920"/>
            <a:ext cx="0" cy="3111480"/>
          </a:xfrm>
          <a:prstGeom prst="line">
            <a:avLst/>
          </a:prstGeom>
          <a:ln cap="sq" w="38160">
            <a:solidFill>
              <a:srgbClr val="ff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Line 7"/>
          <p:cNvSpPr/>
          <p:nvPr/>
        </p:nvSpPr>
        <p:spPr>
          <a:xfrm flipH="1" flipV="1">
            <a:off x="3881520" y="4619520"/>
            <a:ext cx="2341440" cy="1190880"/>
          </a:xfrm>
          <a:prstGeom prst="line">
            <a:avLst/>
          </a:prstGeom>
          <a:ln cap="sq" w="38160">
            <a:solidFill>
              <a:srgbClr val="ff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3304800" y="4619520"/>
            <a:ext cx="576360" cy="76320"/>
          </a:xfrm>
          <a:prstGeom prst="line">
            <a:avLst/>
          </a:prstGeom>
          <a:ln cap="sq" w="3816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Line 10"/>
          <p:cNvSpPr/>
          <p:nvPr/>
        </p:nvSpPr>
        <p:spPr>
          <a:xfrm flipH="1" flipV="1">
            <a:off x="3227040" y="4043520"/>
            <a:ext cx="654120" cy="576000"/>
          </a:xfrm>
          <a:prstGeom prst="line">
            <a:avLst/>
          </a:prstGeom>
          <a:ln cap="sq" w="3816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87184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05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Positive feedback is supplied in a Pierce oscillator through a quartz crystal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1" name="Picture 4" descr="PierceOsc"/>
          <p:cNvPicPr/>
          <p:nvPr/>
        </p:nvPicPr>
        <p:blipFill>
          <a:blip r:embed="rId1"/>
          <a:stretch/>
        </p:blipFill>
        <p:spPr>
          <a:xfrm>
            <a:off x="2882880" y="2008080"/>
            <a:ext cx="3417840" cy="275436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>
            <a:off x="1308240" y="2122560"/>
            <a:ext cx="2111400" cy="654120"/>
          </a:xfrm>
          <a:prstGeom prst="line">
            <a:avLst/>
          </a:prstGeom>
          <a:ln cap="sq" w="38160">
            <a:solidFill>
              <a:srgbClr val="ff15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230480" y="5079960"/>
            <a:ext cx="4300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Positive Feedback for oscillators –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Hartley --- tapped coi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Colpitts --- capacitive divider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381aea"/>
                </a:solidFill>
                <a:latin typeface="Rockwell"/>
              </a:rPr>
              <a:t>Pierce --- quartz crysta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mateur Radio Extra Clas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Oscillate &amp; Synthesize Thi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469520"/>
            <a:ext cx="91440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98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06…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Colpitts and Hartley oscillator circuits are commonly used in VFO circuit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07…</a:t>
            </a:r>
            <a:r>
              <a:rPr b="1" lang="en-US" sz="14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magnetron oscillator is a UHF or microwave oscillator consisting of a diode vacuum </a:t>
            </a:r>
            <a:r>
              <a:rPr b="0" i="1" lang="en-US" sz="2000" spc="-1" strike="noStrike">
                <a:solidFill>
                  <a:srgbClr val="000066"/>
                </a:solidFill>
                <a:latin typeface="Rockwell"/>
              </a:rPr>
              <a:t>(Magnetron)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 tube with a specially shaped anode (resonator), surrounded by an external magnet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799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08…</a:t>
            </a:r>
            <a:r>
              <a:rPr b="1" lang="en-US" sz="14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Gunn diode oscillator is an oscillator based on the negative resistance properties of properly-doped semiconductors.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81aea"/>
                </a:solidFill>
                <a:latin typeface="Rockwell"/>
              </a:rPr>
              <a:t>	</a:t>
            </a:r>
            <a:r>
              <a:rPr b="0" i="1" lang="en-US" sz="2400" spc="-1" strike="noStrike">
                <a:solidFill>
                  <a:srgbClr val="381aea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4456080" y="3909960"/>
            <a:ext cx="4687920" cy="29480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0" y="4811760"/>
            <a:ext cx="4648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1515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        </a:t>
            </a:r>
            <a:r>
              <a:rPr b="1" lang="en-US" sz="1200" spc="-1" strike="noStrike">
                <a:solidFill>
                  <a:srgbClr val="000066"/>
                </a:solidFill>
                <a:latin typeface="Rockwell"/>
              </a:rPr>
              <a:t>E7H09…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ockwell"/>
              </a:rPr>
              <a:t>A phase locked loop frequency synthesizer circuit uses a stable, voltage-controlled oscillator, programmable divider, phase detector, loop filter and a reference frequency source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85920" y="3851280"/>
            <a:ext cx="360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81aea"/>
                </a:solidFill>
                <a:latin typeface="Rockwell"/>
              </a:rPr>
              <a:t>Gunn Diodes in a resonant circuit or cavity work as oscillators well into the microwave regi</a:t>
            </a:r>
            <a:r>
              <a:rPr b="0" lang="en-US" sz="1600" spc="-1" strike="noStrike">
                <a:solidFill>
                  <a:srgbClr val="381aea"/>
                </a:solidFill>
                <a:latin typeface="Rockwell"/>
              </a:rPr>
              <a:t>on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8220240" y="6500880"/>
            <a:ext cx="769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17:50:50Z</dcterms:created>
  <dc:creator>K3DIO - Bob;KK0SD - Joe;AD7FO - Jack</dc:creator>
  <dc:description>http://www.K3DIO.Com
Select Training PPT's
Select appropriate folder</dc:description>
  <dc:language>en-US</dc:language>
  <cp:lastModifiedBy>Bob Bytheway  -  K3DIO</cp:lastModifiedBy>
  <dcterms:modified xsi:type="dcterms:W3CDTF">2012-02-15T05:32:19Z</dcterms:modified>
  <cp:revision>104</cp:revision>
  <dc:subject/>
  <dc:title>Amateur Extra Licensing Class</dc:title>
</cp:coreProperties>
</file>