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F3DD-C36A-4DC0-9475-AB5B7E140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B0AF-44F8-4A0E-B303-B5F8EE3AE848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141C-A76E-4510-B1FC-61EFCF25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AA23-4954-4C65-BF9D-E070CE19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33B4-BE74-4A60-BAC4-2A0953C5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F7E2-1274-4D75-A820-2597EBA5D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712E-8E42-449B-973D-092FDFB2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C5BF-9662-42E5-92AD-739D7CFF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85A2-6324-49FF-98D4-AC6FDE88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BC31-EBE2-434B-A10A-A0DD4532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CF84-CD4F-49A4-91DE-48A78A75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31A7-808B-40DD-A346-0E31BB4C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B375-F18B-4FCE-B528-585D83FE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CC99-2087-4A8D-A262-3251D2D2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B1FD-4CA2-49ED-9542-C03C83D9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5344-2C3D-428E-B599-A2052E30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35E7-FEEE-4416-9EBF-938E9D6A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8210-2AEC-43C5-83B0-F3DA76F8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A353-9536-4623-A938-94103560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5C98-2729-43FD-A812-6BE99446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66E1-194A-46B7-B90A-9F09EB29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0103-6E4D-47B0-92AE-404D24A5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D5FF-5996-4D85-BA20-4BAD5CC2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23E7-DC23-4B3B-A6D4-5BFD77C4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9CB3-31FE-40C3-A099-68833656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CBDE-2815-4D9F-85DF-EE4C8970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A02E-ED68-4D0C-8EA6-FEA2F5FC6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EB54-0C09-4757-83B7-1F99764352BD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indspring.com/~n2wwd/html/amateur_sats.html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600" y="37764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mateur Extra Licensing Cla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03440" y="4080960"/>
            <a:ext cx="3801960" cy="13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0" algn="ctr">
              <a:spcBef>
                <a:spcPts val="649"/>
              </a:spcBef>
              <a:buNone/>
              <a:tabLst>
                <a:tab algn="l" pos="0"/>
                <a:tab algn="l" pos="574560"/>
                <a:tab algn="l" pos="1031760"/>
                <a:tab algn="l" pos="1488960"/>
                <a:tab algn="l" pos="1946160"/>
                <a:tab algn="l" pos="2403360"/>
                <a:tab algn="l" pos="2860560"/>
                <a:tab algn="l" pos="3317760"/>
                <a:tab algn="l" pos="3774960"/>
                <a:tab algn="l" pos="4232160"/>
                <a:tab algn="l" pos="4689360"/>
                <a:tab algn="l" pos="5146560"/>
                <a:tab algn="l" pos="5603760"/>
                <a:tab algn="l" pos="6060960"/>
                <a:tab algn="l" pos="6518160"/>
                <a:tab algn="l" pos="6975360"/>
                <a:tab algn="l" pos="7432560"/>
                <a:tab algn="l" pos="7889760"/>
                <a:tab algn="l" pos="8346960"/>
                <a:tab algn="l" pos="8804160"/>
                <a:tab algn="l" pos="92613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Verdana"/>
              </a:rPr>
              <a:t>Presented by</a:t>
            </a:r>
            <a:endParaRPr b="0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452520" indent="0" algn="ctr">
              <a:spcBef>
                <a:spcPts val="649"/>
              </a:spcBef>
              <a:buNone/>
              <a:tabLst>
                <a:tab algn="l" pos="0"/>
                <a:tab algn="l" pos="574560"/>
                <a:tab algn="l" pos="1031760"/>
                <a:tab algn="l" pos="1488960"/>
                <a:tab algn="l" pos="1946160"/>
                <a:tab algn="l" pos="2403360"/>
                <a:tab algn="l" pos="2860560"/>
                <a:tab algn="l" pos="3317760"/>
                <a:tab algn="l" pos="3774960"/>
                <a:tab algn="l" pos="4232160"/>
                <a:tab algn="l" pos="4689360"/>
                <a:tab algn="l" pos="5146560"/>
                <a:tab algn="l" pos="5603760"/>
                <a:tab algn="l" pos="6060960"/>
                <a:tab algn="l" pos="6518160"/>
                <a:tab algn="l" pos="6975360"/>
                <a:tab algn="l" pos="7432560"/>
                <a:tab algn="l" pos="7889760"/>
                <a:tab algn="l" pos="8346960"/>
                <a:tab algn="l" pos="8804160"/>
                <a:tab algn="l" pos="92613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Verdana"/>
              </a:rPr>
              <a:t>W5YI </a:t>
            </a:r>
            <a:endParaRPr b="0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452520" indent="0" algn="ctr">
              <a:spcBef>
                <a:spcPts val="649"/>
              </a:spcBef>
              <a:buNone/>
              <a:tabLst>
                <a:tab algn="l" pos="0"/>
                <a:tab algn="l" pos="574560"/>
                <a:tab algn="l" pos="1031760"/>
                <a:tab algn="l" pos="1488960"/>
                <a:tab algn="l" pos="1946160"/>
                <a:tab algn="l" pos="2403360"/>
                <a:tab algn="l" pos="2860560"/>
                <a:tab algn="l" pos="3317760"/>
                <a:tab algn="l" pos="3774960"/>
                <a:tab algn="l" pos="4232160"/>
                <a:tab algn="l" pos="4689360"/>
                <a:tab algn="l" pos="5146560"/>
                <a:tab algn="l" pos="5603760"/>
                <a:tab algn="l" pos="6060960"/>
                <a:tab algn="l" pos="6518160"/>
                <a:tab algn="l" pos="6975360"/>
                <a:tab algn="l" pos="7432560"/>
                <a:tab algn="l" pos="7889760"/>
                <a:tab algn="l" pos="8346960"/>
                <a:tab algn="l" pos="8804160"/>
                <a:tab algn="l" pos="92613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Verdana"/>
              </a:rPr>
              <a:t>Arlington, Texas</a:t>
            </a:r>
            <a:endParaRPr b="0" lang="en-US" sz="2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1" name="Picture 8" descr="1"/>
          <p:cNvPicPr/>
          <p:nvPr/>
        </p:nvPicPr>
        <p:blipFill>
          <a:blip r:embed="rId1"/>
          <a:stretch/>
        </p:blipFill>
        <p:spPr>
          <a:xfrm>
            <a:off x="0" y="3929040"/>
            <a:ext cx="1951200" cy="2928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elmer-n-ham"/>
          <p:cNvPicPr/>
          <p:nvPr/>
        </p:nvPicPr>
        <p:blipFill>
          <a:blip r:embed="rId2"/>
          <a:stretch/>
        </p:blipFill>
        <p:spPr>
          <a:xfrm>
            <a:off x="0" y="1508040"/>
            <a:ext cx="2133720" cy="2189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0"/>
          <p:cNvSpPr/>
          <p:nvPr/>
        </p:nvSpPr>
        <p:spPr>
          <a:xfrm>
            <a:off x="4033800" y="2506680"/>
            <a:ext cx="44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1515"/>
                </a:solidFill>
                <a:latin typeface="Rockwell"/>
              </a:rPr>
              <a:t>Outer Space Comm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17360" y="1469880"/>
            <a:ext cx="871884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2A09</a:t>
            </a:r>
            <a:r>
              <a:rPr b="0" lang="en-US" sz="1200" spc="-1" strike="noStrike">
                <a:solidFill>
                  <a:srgbClr val="000066"/>
                </a:solidFill>
                <a:latin typeface="Rockwell"/>
              </a:rPr>
              <a:t>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terms L band and S band specify the 23 centimeter and 13 centimeter bands with regard to satellite communication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2A06</a:t>
            </a:r>
            <a:r>
              <a:rPr b="0" lang="en-US" sz="1200" spc="-1" strike="noStrike">
                <a:solidFill>
                  <a:srgbClr val="000066"/>
                </a:solidFill>
                <a:latin typeface="Rockwell"/>
              </a:rPr>
              <a:t>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satellite operating in the U/V mode would receive signals in the 432 MHz band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036880" y="2354400"/>
          <a:ext cx="4762440" cy="3260520"/>
        </p:xfrm>
        <a:graphic>
          <a:graphicData uri="http://schemas.openxmlformats.org/drawingml/2006/table">
            <a:tbl>
              <a:tblPr/>
              <a:tblGrid>
                <a:gridCol w="2438280"/>
                <a:gridCol w="232416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Wave Guide Band Designator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Frequency  Range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~ 1 GHz to 2 GHz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~2 GHz to 4 GHz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3.95 GHz to 5.85 GHz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4.9 GHz to 7.o5 GHz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7.05 GHz to 10 GHz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8.2 GHZ to 12.4 GHz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KU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12.4 GHz to 18 GHz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K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18 GHz to 26.5 GHz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K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515"/>
                          </a:solidFill>
                          <a:latin typeface="Rockwell"/>
                          <a:ea typeface="Times New Roman"/>
                        </a:rPr>
                        <a:t>26.5 GHz  to 40 GHz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2A07</a:t>
            </a:r>
            <a:r>
              <a:rPr b="0" lang="en-US" sz="1200" spc="-1" strike="noStrike">
                <a:solidFill>
                  <a:srgbClr val="000066"/>
                </a:solidFill>
                <a:latin typeface="Rockwell"/>
              </a:rPr>
              <a:t>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linear transponder can relay FM, CW, SSB, SSTV, PSK and Packet signals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2A10…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 The received signal from an amateur satellite may exhibit a rapidly repeating fading effect because the satellite is rotating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2A11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circularly polarized antenna can be used to minimize the effects of spin modulation and Faraday rotatio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116000" y="3198960"/>
            <a:ext cx="6529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1515"/>
                </a:solidFill>
                <a:latin typeface="Rockwell"/>
              </a:rPr>
              <a:t>Satellite designers often spin the satellite to improve its pointing stability so a rapid fading effect can be due to satellite rotation.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230480" y="4965840"/>
            <a:ext cx="6260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1515"/>
                </a:solidFill>
                <a:latin typeface="Rockwell"/>
              </a:rPr>
              <a:t>A magneto-optic effect, also known as the Faraday effect, in which the plane of polarization of an electromagnetic wave is rotated under the influence of a magnetic field parallel to the direction of propagation. It is named after the English physicist Michael Faraday (1791-1867), who first observed the effect in 1845.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507680"/>
            <a:ext cx="8874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2A12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… By calculations using the Keplerian elements for the specified satellite you can predict the location of a satellite at a given time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29" name="Picture 4" descr="61-2"/>
          <p:cNvPicPr/>
          <p:nvPr/>
        </p:nvPicPr>
        <p:blipFill>
          <a:blip r:embed="rId1"/>
          <a:stretch/>
        </p:blipFill>
        <p:spPr>
          <a:xfrm>
            <a:off x="1806480" y="2314440"/>
            <a:ext cx="5032440" cy="33163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1116000" y="5772240"/>
            <a:ext cx="725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1515"/>
                </a:solidFill>
                <a:latin typeface="Rockwell"/>
              </a:rPr>
              <a:t>Computer programs and websites can show you where and when an amateur satellite or the Space Station will be in range of your ham station.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3680" y="1700280"/>
            <a:ext cx="8718480" cy="53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2A14</a:t>
            </a:r>
            <a:r>
              <a:rPr b="0" lang="en-US" sz="1200" spc="-1" strike="noStrike">
                <a:solidFill>
                  <a:srgbClr val="000066"/>
                </a:solidFill>
                <a:latin typeface="Rockwell"/>
              </a:rPr>
              <a:t>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satellite's transmitted signal frequency shifts lower as the satellite passes overhead due to the Doppler Effect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3" name="Picture 4" descr="62"/>
          <p:cNvPicPr/>
          <p:nvPr/>
        </p:nvPicPr>
        <p:blipFill>
          <a:blip r:embed="rId1"/>
          <a:stretch/>
        </p:blipFill>
        <p:spPr>
          <a:xfrm>
            <a:off x="1154160" y="2506680"/>
            <a:ext cx="6913440" cy="2771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961920" y="5502240"/>
            <a:ext cx="7566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1515"/>
                </a:solidFill>
                <a:latin typeface="Rockwell"/>
              </a:rPr>
              <a:t>When the satellite is approaching the receiving station its transmitted frequency is higher and when going away from the receiving station its frequency will be lower.  Like a train whistle you hear as a train approaches you and passes away from you. This effect is more pronounced at the higher frequencies.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2A08</a:t>
            </a:r>
            <a:r>
              <a:rPr b="0" lang="en-US" sz="1200" spc="-1" strike="noStrike">
                <a:solidFill>
                  <a:srgbClr val="000066"/>
                </a:solidFill>
                <a:latin typeface="Rockwell"/>
              </a:rPr>
              <a:t>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primary reason for satellite users to limit their transmit ERP is because the satellite transmitter output power is limited </a:t>
            </a:r>
            <a:r>
              <a:rPr b="0" i="1" lang="en-US" sz="2000" spc="-1" strike="noStrike">
                <a:solidFill>
                  <a:srgbClr val="000066"/>
                </a:solidFill>
                <a:latin typeface="Rockwell"/>
              </a:rPr>
              <a:t>and using a lower power allows more users to use the transmitter </a:t>
            </a:r>
            <a:r>
              <a:rPr b="0" i="1" lang="en-US" sz="2000" spc="-1" strike="noStrike">
                <a:solidFill>
                  <a:srgbClr val="ff1515"/>
                </a:solidFill>
                <a:latin typeface="Rockwell"/>
              </a:rPr>
              <a:t>(</a:t>
            </a:r>
            <a:r>
              <a:rPr b="0" i="1" lang="en-US" sz="1600" spc="-1" strike="noStrike">
                <a:solidFill>
                  <a:srgbClr val="ff1515"/>
                </a:solidFill>
                <a:latin typeface="Rockwell"/>
              </a:rPr>
              <a:t>using the minimum power necessary for communication is the rule</a:t>
            </a:r>
            <a:r>
              <a:rPr b="0" i="1" lang="en-US" sz="2000" spc="-1" strike="noStrike">
                <a:solidFill>
                  <a:srgbClr val="ff1515"/>
                </a:solidFill>
                <a:latin typeface="Rockwell"/>
              </a:rPr>
              <a:t>)</a:t>
            </a:r>
            <a:r>
              <a:rPr b="0" i="1" lang="en-US" sz="2000" spc="-1" strike="noStrike">
                <a:solidFill>
                  <a:srgbClr val="000066"/>
                </a:solidFill>
                <a:latin typeface="Rockwel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2D04…  </a:t>
            </a:r>
            <a:r>
              <a:rPr b="0" i="1" lang="en-US" sz="2000" spc="-1" strike="noStrike">
                <a:solidFill>
                  <a:srgbClr val="000066"/>
                </a:solidFill>
                <a:latin typeface="Rockwell"/>
              </a:rPr>
              <a:t>The purpose of digital store-and-forward functions on an amateur satellite is to store digital messages in the satellite for later download by other station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Like a post office box you can send a message to and the 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recipient will go to that mailbox to retrieve your message.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2D05…  </a:t>
            </a:r>
            <a:r>
              <a:rPr b="0" i="1" lang="en-US" sz="2000" spc="-1" strike="noStrike">
                <a:solidFill>
                  <a:srgbClr val="000066"/>
                </a:solidFill>
                <a:latin typeface="Rockwell"/>
              </a:rPr>
              <a:t>The Store-and-Forward technique is normally used by low-earth orbiting digital satellites to relay messages around the world </a:t>
            </a:r>
            <a:r>
              <a:rPr b="0" i="1" lang="en-US" sz="2000" spc="-1" strike="noStrike">
                <a:solidFill>
                  <a:srgbClr val="ff0000"/>
                </a:solidFill>
                <a:latin typeface="Rockwell"/>
              </a:rPr>
              <a:t>(</a:t>
            </a:r>
            <a:r>
              <a:rPr b="0" i="1" lang="en-US" sz="1600" spc="-1" strike="noStrike">
                <a:solidFill>
                  <a:srgbClr val="ff0000"/>
                </a:solidFill>
                <a:latin typeface="Rockwell"/>
              </a:rPr>
              <a:t>beyond the footprint of the satellite when you send your message</a:t>
            </a:r>
            <a:r>
              <a:rPr b="0" i="1" lang="en-US" sz="2000" spc="-1" strike="noStrike">
                <a:solidFill>
                  <a:srgbClr val="ff0000"/>
                </a:solidFill>
                <a:latin typeface="Rockwell"/>
              </a:rPr>
              <a:t>)</a:t>
            </a:r>
            <a:r>
              <a:rPr b="0" i="1" lang="en-US" sz="2000" spc="-1" strike="noStrike">
                <a:solidFill>
                  <a:srgbClr val="000066"/>
                </a:solidFill>
                <a:latin typeface="Rockwel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2A13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Geosynchronous satellites appear to stay in one (fixed) position in the sky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70000" y="162360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1D12</a:t>
            </a:r>
            <a:r>
              <a:rPr b="0" lang="en-US" sz="1200" spc="-1" strike="noStrike">
                <a:solidFill>
                  <a:srgbClr val="000066"/>
                </a:solidFill>
                <a:latin typeface="Rockwell"/>
              </a:rPr>
              <a:t>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FCC’s International Bureau, Washington, DC must be notified before launching an amateur space statio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1D06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n amateur space station must incorporate the capability of effecting a cessation of transmissions by telecommand when so ordered by the FCC in order to comply with FCC amateur service space station requirement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1D07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40m, 20m, 17m, 15m, 12m and10m bands amateur service have frequencies authorized for space stations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1D05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holder of any class amateur licensee is authorized to be the control operator of a space station.</a:t>
            </a: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1D08</a:t>
            </a:r>
            <a:r>
              <a:rPr b="0" lang="en-US" sz="1200" spc="-1" strike="noStrike">
                <a:solidFill>
                  <a:srgbClr val="000066"/>
                </a:solidFill>
                <a:latin typeface="Rockwell"/>
              </a:rPr>
              <a:t>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2 meter VHF amateur service band has frequencies available for space station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The 6 meter and 1.25 meter bands do not have frequencies 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available for space stations.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1D09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70 cm, 23 cm, 12 cm amateur service UHF bands have frequencies available for a space station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3A01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approximate maximum separation along the surface of the Earth between two stations communicating by moonbounce is 12,000 miles, as long as both can “see” the moo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3A04</a:t>
            </a:r>
            <a:r>
              <a:rPr b="0" lang="en-US" sz="1200" spc="-1" strike="noStrike">
                <a:solidFill>
                  <a:srgbClr val="000066"/>
                </a:solidFill>
                <a:latin typeface="Rockwell"/>
              </a:rPr>
              <a:t>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receiving system with very low noise figure is desirable for EME communications. </a:t>
            </a:r>
            <a:r>
              <a:rPr b="0" lang="en-US" sz="2000" spc="-1" strike="noStrike">
                <a:solidFill>
                  <a:srgbClr val="ff0000"/>
                </a:solidFill>
                <a:latin typeface="Rockwell"/>
              </a:rPr>
              <a:t>(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EME – Earth-Moon-Earth</a:t>
            </a:r>
            <a:r>
              <a:rPr b="0" lang="en-US" sz="2000" spc="-1" strike="noStrike">
                <a:solidFill>
                  <a:srgbClr val="ff0000"/>
                </a:solidFill>
                <a:latin typeface="Rockwell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Rockwel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Rockwell"/>
              </a:rPr>
              <a:t>Around 0.25 dB noise figure for VHF and UHF is desired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3" name="Picture 4" descr="65"/>
          <p:cNvPicPr/>
          <p:nvPr/>
        </p:nvPicPr>
        <p:blipFill>
          <a:blip r:embed="rId1"/>
          <a:stretch/>
        </p:blipFill>
        <p:spPr>
          <a:xfrm>
            <a:off x="2612880" y="2430360"/>
            <a:ext cx="3657600" cy="277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3680" y="166176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3A07</a:t>
            </a:r>
            <a:r>
              <a:rPr b="0" lang="en-US" sz="1200" spc="-1" strike="noStrike">
                <a:solidFill>
                  <a:srgbClr val="000066"/>
                </a:solidFill>
                <a:latin typeface="Rockwell"/>
              </a:rPr>
              <a:t>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144.000 - 144.100 MHz frequency range is where you would you normally tune to find EME stations in the two meter band</a:t>
            </a:r>
            <a:r>
              <a:rPr b="0" lang="en-US" sz="1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3A05</a:t>
            </a:r>
            <a:r>
              <a:rPr b="0" lang="en-US" sz="1200" spc="-1" strike="noStrike">
                <a:solidFill>
                  <a:srgbClr val="000066"/>
                </a:solidFill>
                <a:latin typeface="Rockwell"/>
              </a:rPr>
              <a:t>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wo-minute transmit and receive sequences, where one station transmits for a full two minutes and then receives for the following two minutes is normally used on 144 MHz band when attempting an EME contact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3A08</a:t>
            </a:r>
            <a:r>
              <a:rPr b="0" lang="en-US" sz="1200" spc="-1" strike="noStrike">
                <a:solidFill>
                  <a:srgbClr val="000066"/>
                </a:solidFill>
                <a:latin typeface="Rockwell"/>
              </a:rPr>
              <a:t>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432.000 - 432.100 MHz frequency range is where you would you normally tune to find EME stations in the 70 cm band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9144000" cy="25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3A06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wo and one half minute time sequences, where one station transmits for a full 2.5 minutes and then receives for the following 2.5 minutes, are normally used on 432 MHz band when attempting an EME contact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3A02</a:t>
            </a:r>
            <a:r>
              <a:rPr b="0" lang="en-US" sz="1200" spc="-1" strike="noStrike">
                <a:solidFill>
                  <a:srgbClr val="000066"/>
                </a:solidFill>
                <a:latin typeface="Rockwell"/>
              </a:rPr>
              <a:t>…</a:t>
            </a: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fluttery irregular fading signal characterizes libration fading of an earth-moon-earth signal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0" y="4311720"/>
            <a:ext cx="534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3A03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Scheduling EME when the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   moon is at  perigee will generally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   result in the least path los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9" name="Picture 6" descr="66"/>
          <p:cNvPicPr/>
          <p:nvPr/>
        </p:nvPicPr>
        <p:blipFill>
          <a:blip r:embed="rId1"/>
          <a:stretch/>
        </p:blipFill>
        <p:spPr>
          <a:xfrm>
            <a:off x="5646600" y="3621240"/>
            <a:ext cx="2275200" cy="302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lement 4 Course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151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Rockwell"/>
              </a:rPr>
              <a:t>ELEMENT 4 Grouping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Rules &amp; Reg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Skywaves &amp; Contesting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515"/>
                </a:solidFill>
                <a:latin typeface="Rockwell"/>
              </a:rPr>
              <a:t>Outer Space Comm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Visuals &amp; Video Mod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Digital Excitement with Computers &amp; Radio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Modulate Your Transmitter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Amps &amp; Power Suppli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Receivers with Great Filter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62000" y="1892160"/>
            <a:ext cx="718200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Rockwell"/>
              </a:rPr>
              <a:t>Element 4 Extra Class 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en-GB" sz="3600" spc="-1" strike="noStrike">
                <a:solidFill>
                  <a:srgbClr val="ffffff"/>
                </a:solidFill>
                <a:latin typeface="Rockwell"/>
              </a:rPr>
              <a:t>Question Pool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4033800" y="4695840"/>
            <a:ext cx="3801960" cy="14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  <a:ea typeface="Tahoma"/>
              </a:rPr>
              <a:t>Valid July 1, 2008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  <a:ea typeface="Tahoma"/>
              </a:rPr>
              <a:t>Through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  <a:ea typeface="Tahoma"/>
              </a:rPr>
              <a:t>June 30, 2012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52" name="Picture 4" descr="elmer-n-ham"/>
          <p:cNvPicPr/>
          <p:nvPr/>
        </p:nvPicPr>
        <p:blipFill>
          <a:blip r:embed="rId1"/>
          <a:stretch/>
        </p:blipFill>
        <p:spPr>
          <a:xfrm>
            <a:off x="0" y="1508040"/>
            <a:ext cx="2133720" cy="2189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1"/>
          <p:cNvPicPr/>
          <p:nvPr/>
        </p:nvPicPr>
        <p:blipFill>
          <a:blip r:embed="rId2"/>
          <a:stretch/>
        </p:blipFill>
        <p:spPr>
          <a:xfrm>
            <a:off x="0" y="3929040"/>
            <a:ext cx="1951200" cy="29289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3611520" y="27385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1880" y="202680"/>
            <a:ext cx="7797600" cy="86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1D02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amateur-satellite servi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A radio navigation service using satellites for the purpose of self-training, intercommunication and technical studies carried out by amateur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A spacecraft launching service for amateur-built satellit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A radio communications service using amateur stations on satellit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A radio communications service using stations on Earth satellites for weather information gathering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2A02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direction of a descending pass for an amateur satellite?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From north to south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From west to eas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From east to wes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From south to north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120" y="43344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2A01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direction of an ascending pass for an amateur satelli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3720" y="2045880"/>
            <a:ext cx="818064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From west to eas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From east to wes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From south to north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From north to south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2A03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orbital period of a satelli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point of maximum height of a satellite's orbi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8040" indent="-5180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point of minimum height of a satellite's orbi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8040" indent="-5180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time it takes for a satellite to complete one revolution around the Earth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8040" indent="-5180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time it takes for a satellite to travel from perigee to apoge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120" y="47160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1D04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 Earth station in the amateur satellite serv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amateur station within 50 km of the Earth's surface for communications with amateur stations by means of objects in spac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29920" indent="-52992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amateur station that is not able to communicate using amateur satellite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29920" indent="-52992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amateur station that transmits telemetry consisting of measurement of upper atmosphere data from spac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29920" indent="-52992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y amateur station on the surface of the Earth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0000" y="47160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1D11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mateur stations are eligible to operate as Earth sta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y amateur station whose licensee has filed a pre-space notification with the FCC’s International Bureau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Only those of General, Advanced or Amateur Extra Class operator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Only those of Amateur Extra Class operator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y amateur station, subject to the privileges of the class of operator license held by the control operator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1120" y="47160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1D03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telecommand station in the amateur satellite serv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70000" y="1623600"/>
            <a:ext cx="871992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An amateur station located on the Earth’s surface for communications with other Earth stations by means of Earth satellit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36040" indent="-53604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An amateur station that transmits communications to initiate, modify or terminate certain functions of a space statio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36040" indent="-53604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An amateur station located more than 50 km above the Earth’s surfac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36040" indent="-53604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An amateur station that transmits telemetry consisting of measurements of upper atmosphere data from spac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1D01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definition of the term teleme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3320" y="196956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One-way transmission of measurements at a distance from the measuring instrumen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 two-way interactive transmissio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 two-way single channel transmission of data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One-way transmission that initiates, modifies, or terminates the functions of a device at a distanc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0000" y="47160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1D10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mateur stations are eligible to be telecommand sta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ny amateur station designated by NASA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ny amateur station so designated by the space station license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ny amateur station so designated by the ITU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ll of these choices are correc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lement 4 Course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151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Rockwell"/>
              </a:rPr>
              <a:t>ELEMENT 4 Grouping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Oscillate &amp; Synthesize This!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Circuits &amp; Resonance for All!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Components in Your New Rig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Logically Speaking of Counter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Optos &amp; OpAmps Plus Solar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Test Gear, Testing, Testing 1,2,3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Antenna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Feedlines &amp; Safety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120" y="39528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2A04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meant by the term “mode” as applied to an amateur radio satellit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31840" y="1816200"/>
            <a:ext cx="8719920" cy="34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type of signals that can be relayed through the satellit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05800" indent="-50580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satellite's uplink and downlink frequency bands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05800" indent="-50580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satellite's orientation with respect to the Earth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05800" indent="-50580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Whether the satellite is in a polar or equatorial orbi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120" y="50976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2A05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letters in a satellite's mode designator specif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Power limits for uplink and downlink transmission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location of the ground control station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polarization of uplink and downlink signal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uplink and downlink frequencie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7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2A09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the terms L band and S band specify with regard to satellite communica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23 centimeter and 13 centimeter band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2 meter and 70 centimeter band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FM and Digital Store-and-Forward system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Which sideband to us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7760" y="43344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2A06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what band would a satellite receive signals if it were operating in mode U/V?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76040" y="2045880"/>
            <a:ext cx="652932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66"/>
                </a:solidFill>
                <a:latin typeface="Rockwell"/>
              </a:rPr>
              <a:t>432 MHz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66"/>
                </a:solidFill>
                <a:latin typeface="Rockwell"/>
              </a:rPr>
              <a:t>144 MHz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66"/>
                </a:solidFill>
                <a:latin typeface="Rockwell"/>
              </a:rPr>
              <a:t>50 MHz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28 MHz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2A07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of the following types of signals can be relayed through a linear transpond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FM and CW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SSB and SSTV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PSK and Packe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ll these answers are correc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3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2A10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may the received signal from an amateur satellite exhibit a rapidly repeating fading effect?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Because the satellite is rotating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Because of ionospheric absorption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Because of the satellite's low orbital altitud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Because of the Doppler effec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2A11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ype of antenna can be used to minimize the effects of spin modulation and Faraday rot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31880" y="2045880"/>
            <a:ext cx="798840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 linearly polarized antenna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 circularly polarized antenna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n isotropic antenna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 log-periodic dipole array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3320" y="54936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2A12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one way to predict the location of a satellite at a given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31840" y="1891800"/>
            <a:ext cx="871992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By means of the Doppler data for the specified satellit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481320" indent="-48132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By subtracting the mean anomaly from the orbital inclination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481320" indent="-48132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By adding the mean anomaly to the orbital inclination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481320" indent="-48132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By calculations using the Keplerian elements for the specified satellit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120" y="35712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2A14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happens to a satellite's transmitted signal due to the Doppler Effec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31840" y="1739520"/>
            <a:ext cx="871992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signal strength is reduced as the satellite passes overhead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signal frequency shifts lower as the satellite passes overhead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signal frequency shifts higher as the satellite passes overhead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polarization of the signal continually rotates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120" y="47160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2A08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primary reason for satellite users to limit their transmit ERP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31840" y="2122560"/>
            <a:ext cx="8719920" cy="34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For RF exposure safety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Because the satellite transmitter output power is limited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o avoid limiting the signal of the other user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o avoid interfering with terrestrial QSO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469520"/>
            <a:ext cx="484020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1D02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amateur-satellite service is a radio communications service using amateur stations on satellite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0" name="Picture 23" descr="Amateur Radio Satellit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4120" y="3659040"/>
            <a:ext cx="3801960" cy="225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4" descr="57"/>
          <p:cNvPicPr/>
          <p:nvPr/>
        </p:nvPicPr>
        <p:blipFill>
          <a:blip r:embed="rId3"/>
          <a:stretch/>
        </p:blipFill>
        <p:spPr>
          <a:xfrm>
            <a:off x="4956120" y="1623960"/>
            <a:ext cx="3990960" cy="506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2D04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purpose of digital store-and-forward functions on an Amateur satelli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31840" y="1816200"/>
            <a:ext cx="8719920" cy="34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o upload operational software for the transponder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42160" indent="-54216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o delay download of telemetry until the satellite is over the control station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42160" indent="-54216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o store digital messages in the satellite for later download by other station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42160" indent="-54216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o relay messages between satellite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7760" y="5493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2D05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the following techniques is normally used by low-earth orbiting digital satellites to relay messages around the worl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Digipeating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Store-and-forward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Multi-satellite relaying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Node hopping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120" y="47160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2A13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satellite appears to stay in one position in the sk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HEO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Geosynchronou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Geomagnetic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LEO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5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9600" y="47160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1D12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must be notified before launching an amateur space stat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National Aeronautics and Space Administration, Houston, TX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FCC’s International Bureau, Washington, DC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Amateur Satellite Corp., Washington, DC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ll of these answers are correc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7760" y="5493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1D06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the following special provisions must a space station incorporate in order to comply with space station requirem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93320" y="1700280"/>
            <a:ext cx="8720280" cy="34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-49356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he space station must be capable of effecting a cessation of transmissions by telecommand when so ordered by the FCC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493560" indent="-49356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he space station must cease all transmissions after 5 year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493560" indent="-49356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he space station must be capable of changing its orbit whenever such a change is ordered by NASA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493560" indent="-49356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he station call sign must appear on all sides of the spacecraf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1D07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amateur service HF bands have frequencies authorized to space sta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70000" y="1816200"/>
            <a:ext cx="8719920" cy="34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Only 40m, 20m, 17m, 15m, 12m and 10m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Only 40m, 20m, 17m, 15m and 10m band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40m, 30m, 20m, 15m, 12m and 10m band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ll HF band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1D05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lass of licensee is authorized to be the control operator of a space st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ny except those of Technician Class operator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Only those of General, Advanced or Amateur Extra Class operator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 holder of any class of licens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Only those of Amateur Extra Class operator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7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9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1D08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VHF amateur service bands have frequencies available for space sta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6 meters and 2 meter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6 meters, 2 meters, and 1.25 meter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2 meters and 1.25 meter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2 meter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1D09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amateur service UHF bands have frequencies available for a space st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768204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70 cm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70 cm, 23 cm, 13 cm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70 cm and 33 cm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33 cm and 13 cm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5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1120" y="58752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3A01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approximate maximum separation along the surface of the Earth between two stations communicating by moonbou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500 miles if the moon is at perige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2000 miles, if the moon is at apoge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5000 miles, if the moon is at perige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12,000 miles, as long as both can “see” the moon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1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3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469520"/>
            <a:ext cx="5032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2A02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direction of a descending pass for an amateur satellite is from north to south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2A01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direction of an ascending pass for an amateur satellite is from south to north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5454720" y="1508040"/>
            <a:ext cx="1728720" cy="199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5454720" y="3544920"/>
            <a:ext cx="1760400" cy="19591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270000" y="5502240"/>
            <a:ext cx="8526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Rockwell"/>
              </a:rPr>
              <a:t>Ascending and descending are defined for a satellite’s motion referenced to the equator. Only the north or south motion is important and not the east-west motion. If the satellite is moving from south to north, then it makes an ascending pass and if it moves north-to-south it is descending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120" y="50976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3A04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type of receiving system is desirable for EME communicatio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Equipment with very wide bandwidth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Equipment with very low dynamic rang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Equipment with very low gain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Equipment with very low noise figure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1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3A07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frequency range would you normally tune to find EME stations in the 2 meter ba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7604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66"/>
                </a:solidFill>
                <a:latin typeface="Rockwell"/>
              </a:rPr>
              <a:t>144.000 - 144.001 MHz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66"/>
                </a:solidFill>
                <a:latin typeface="Rockwell"/>
              </a:rPr>
              <a:t>144.000 - 144.100 MHz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66"/>
                </a:solidFill>
                <a:latin typeface="Rockwell"/>
              </a:rPr>
              <a:t>144.100 - 144.300 MHz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145.000 - 145.100 MHz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3A0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ransmit and receive time sequencing is normally used on 144 MHz when attempting an EME contact?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9240" y="1700280"/>
            <a:ext cx="8720280" cy="34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Two-minute sequences, where one station transmits for a full two minutes and then receives for the following two minut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One-minute sequences, where one station transmits for one minute and then receives for the following one minut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Two-and-one-half minute sequences, where one station transmits for a full 2.5 minutes and then receives for the following 2.5 minut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Five-minute sequences, where one station transmits for five minutes and then receives for the following five minut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3A08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frequency range would you normally tune to find EME stations in the 70 cm band?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779652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66"/>
                </a:solidFill>
                <a:latin typeface="Rockwell"/>
              </a:rPr>
              <a:t>430.000 - 430.150 MHz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66"/>
                </a:solidFill>
                <a:latin typeface="Rockwell"/>
              </a:rPr>
              <a:t>430.100 - 431.100 MHz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66"/>
                </a:solidFill>
                <a:latin typeface="Rockwell"/>
              </a:rPr>
              <a:t>431.100 - 431.200 MHz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432.000 - 432.100 MHz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3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5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120" y="624960"/>
            <a:ext cx="8642520" cy="86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3A06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ransmit and receive time sequencing is normally used on 432 MHz when attempting an EME contac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0000" y="1778040"/>
            <a:ext cx="8719920" cy="34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Two-minute sequences, where one station transmits for a full two minutes and then receives for the following two minut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One-minute sequences, where one station transmits for one minute and then receives for the following one minut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Two-and-one-half minute sequences, where one station transmits for a full 2.5 minutes and then receives for the following 2.5 minut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Five-minute sequences, where one station transmits for five minutes and then receives for the following five minut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1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47760" y="47160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3A02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izes libration fading of an earth-moon-earth sign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31840" y="1778040"/>
            <a:ext cx="8719920" cy="34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 slow change in the pitch of the CW signa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 fluttery irregular fading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 gradual loss of signal as the sun rise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returning echo is several Hertz lower in frequency than the transmitted signa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3A03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scheduling EME contacts, which of these conditions will generally result in the least path lo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23360" y="2045880"/>
            <a:ext cx="872028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When the moon is at perige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When the moon is ful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When the moon is at apoge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When the MUF is above 30 MHz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2A03</a:t>
            </a:r>
            <a:r>
              <a:rPr b="0" lang="en-US" sz="1200" spc="-1" strike="noStrike">
                <a:solidFill>
                  <a:srgbClr val="000066"/>
                </a:solidFill>
                <a:latin typeface="Rockwell"/>
              </a:rPr>
              <a:t>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time it takes for a satellite to complete one revolution around the earth is the orbital period of that satellite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9" name="Picture 4" descr="58"/>
          <p:cNvPicPr/>
          <p:nvPr/>
        </p:nvPicPr>
        <p:blipFill>
          <a:blip r:embed="rId1"/>
          <a:stretch/>
        </p:blipFill>
        <p:spPr>
          <a:xfrm>
            <a:off x="961920" y="2276640"/>
            <a:ext cx="7104240" cy="42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1D04</a:t>
            </a:r>
            <a:r>
              <a:rPr b="0" lang="en-US" sz="1200" spc="-1" strike="noStrike">
                <a:solidFill>
                  <a:srgbClr val="000066"/>
                </a:solidFill>
                <a:latin typeface="Rockwell"/>
              </a:rPr>
              <a:t>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n earth station in the amateur satellite service is an amateur station within 50 km of the earth's surface for communications with amateur stations in space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1D11</a:t>
            </a:r>
            <a:r>
              <a:rPr b="1" lang="en-US" sz="1000" spc="-1" strike="noStrike">
                <a:solidFill>
                  <a:srgbClr val="000066"/>
                </a:solidFill>
                <a:latin typeface="Rockwell"/>
              </a:rPr>
              <a:t>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ny amateur station, subject to the privileges of the class of operator license held by the control operator, is eligible to operate earth station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3919680" y="2314440"/>
            <a:ext cx="2879640" cy="28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9600" y="1854360"/>
            <a:ext cx="86011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1D03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… A telecommand station in the amateur satellite service is an amateur station that transmits communications to initiate, modify or terminate certain functions of a space statio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1D01</a:t>
            </a:r>
            <a:r>
              <a:rPr b="0" lang="en-US" sz="500" spc="-1" strike="noStrike">
                <a:solidFill>
                  <a:srgbClr val="000066"/>
                </a:solidFill>
                <a:latin typeface="Rockwell"/>
              </a:rPr>
              <a:t>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definition of the term telemetry is one-way transmission of measurements at a distance from the measuring instrument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1D10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…  Any amateur stations so designated by the space station licensee are eligible to be telecommand station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ff1515"/>
                </a:solidFill>
                <a:latin typeface="Rockwell"/>
              </a:rPr>
              <a:t>	</a:t>
            </a:r>
            <a:r>
              <a:rPr b="1" i="1" lang="en-US" sz="700" spc="-1" strike="noStrike">
                <a:solidFill>
                  <a:srgbClr val="ff1515"/>
                </a:solidFill>
                <a:latin typeface="Rockwell"/>
              </a:rPr>
              <a:t>	</a:t>
            </a:r>
            <a:endParaRPr b="0" lang="en-US" sz="7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ff1515"/>
                </a:solidFill>
                <a:latin typeface="Rockwell"/>
              </a:rPr>
              <a:t>	</a:t>
            </a:r>
            <a:r>
              <a:rPr b="1" i="1" lang="en-US" sz="700" spc="-1" strike="noStrike">
                <a:solidFill>
                  <a:srgbClr val="ff1515"/>
                </a:solidFill>
                <a:latin typeface="Rockwell"/>
              </a:rPr>
              <a:t>	</a:t>
            </a:r>
            <a:endParaRPr b="0" lang="en-US" sz="7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460520" y="3621240"/>
            <a:ext cx="57992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1515"/>
                </a:solidFill>
                <a:latin typeface="Rockwell"/>
              </a:rPr>
              <a:t>Telemetry</a:t>
            </a:r>
            <a:r>
              <a:rPr b="0" i="1" lang="en-US" sz="1800" spc="-1" strike="noStrike">
                <a:solidFill>
                  <a:srgbClr val="ff1515"/>
                </a:solidFill>
                <a:latin typeface="Rockwell"/>
              </a:rPr>
              <a:t> is a technology that allows the remote measurement and reporting of information of interest to the system designer or operator.</a:t>
            </a:r>
            <a:r>
              <a:rPr b="0" lang="en-US" sz="1800" spc="-1" strike="noStrike">
                <a:solidFill>
                  <a:srgbClr val="ff1515"/>
                </a:solidFill>
                <a:latin typeface="Rockwell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Rockwell"/>
              </a:rPr>
              <a:t>Systems that need instructions and data sent to them in order to operate require the counterpart of telemetry, telecommand.</a:t>
            </a:r>
            <a:r>
              <a:rPr b="0" lang="en-US" sz="1800" spc="-1" strike="noStrike">
                <a:solidFill>
                  <a:srgbClr val="ff1515"/>
                </a:solidFill>
                <a:latin typeface="Rockwel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uter Space Com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2A04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…  The term “mode” as applied to an amateur radio satellite refers to the satellite's uplink and downlink frequency band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2A05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… The letters in a satellite's mode designator specify the uplink and downlink frequencie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89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2" marL="89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2" marL="89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038240" y="2314440"/>
            <a:ext cx="7412040" cy="23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Rockwell"/>
              </a:rPr>
              <a:t>Frequency Bands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Rockwell"/>
              </a:rPr>
              <a:t>	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Rockwell"/>
              </a:rPr>
              <a:t>	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Rockwell"/>
              </a:rPr>
              <a:t>Frequency Range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Rockwell"/>
              </a:rPr>
              <a:t>	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Rockwell"/>
              </a:rPr>
              <a:t>	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Rockwell"/>
              </a:rPr>
              <a:t>Modes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High Frequency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21 – 30 MHz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Mode H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VHF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144 – 146 MHz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Mode V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UHF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435 – 438 MHz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Mode U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L band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1.26-1.27 GHz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Mode L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S band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2.4-2.45 GHz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Mode S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C band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5.8 GHz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Mode C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X band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10.4 GHz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Mode X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K band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24 GHz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Mode K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808200" y="4888080"/>
            <a:ext cx="71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Rockwell"/>
              </a:rPr>
              <a:t>Amateur transmit and receive frequencies for satellite operation are on separate bands. Each band has its own designator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2T17:50:50Z</dcterms:created>
  <dc:creator>K3DIO - Bob;KK0SD - Joe;AD7FO - Jack</dc:creator>
  <dc:description>http://www.K3DIO.Com
Select Training PPT's
Select appropriate folder</dc:description>
  <dc:language>en-US</dc:language>
  <cp:lastModifiedBy>Bob Bytheway  -  K3DIO</cp:lastModifiedBy>
  <dcterms:modified xsi:type="dcterms:W3CDTF">2012-02-15T05:33:08Z</dcterms:modified>
  <cp:revision>132</cp:revision>
  <dc:subject/>
  <dc:title>Amateur Extra Licensing Class</dc:title>
</cp:coreProperties>
</file>